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E1B-9B26-475A-BDA3-2B81BA85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1EE-C2BA-498C-9469-F81CC332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B16-EF28-4B43-B9FF-1191DFF2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EE3-B770-4B76-ABB6-AF9D8D4F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D43-6CA8-416D-89F7-09491020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0889-0A78-413D-8D37-52AAB9C1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D40-5AEC-4F38-8D07-24E2E7CF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426-272B-40C6-8671-D6820A80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96C-845C-4EDC-BF26-7BB49244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DA3-D584-4B3E-A31D-E5F16B3E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5B8-EF2D-42C5-B3CE-5EB946EB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D5A-177D-427C-B07B-268CC0F5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0C97-63E9-4FE8-BFB5-F237FD4EB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91120" y="3886200"/>
            <a:ext cx="3581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PTER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u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y bits of liquid or solid matter in the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- construction, forestry, fires, vehicles, househol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ause respiratory problems, cancer, erode 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construction_clipart_backhoe"/>
          <p:cNvPicPr/>
          <p:nvPr/>
        </p:nvPicPr>
        <p:blipFill>
          <a:blip r:embed="rId1"/>
          <a:stretch/>
        </p:blipFill>
        <p:spPr>
          <a:xfrm>
            <a:off x="4114800" y="5181480"/>
            <a:ext cx="1905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POLLU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3623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level oz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27160" y="6019920"/>
            <a:ext cx="86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a second…I thought we liked ozone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ground_ozone"/>
          <p:cNvPicPr/>
          <p:nvPr/>
        </p:nvPicPr>
        <p:blipFill>
          <a:blip r:embed="rId1"/>
          <a:stretch/>
        </p:blipFill>
        <p:spPr>
          <a:xfrm>
            <a:off x="3048120" y="1371600"/>
            <a:ext cx="50292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zone in the Stratosp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protect the Earth from UV 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zone in the troposp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respiratory problems- asthma, shortness of breath, permanent lung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img-thing?"/>
          <p:cNvPicPr/>
          <p:nvPr/>
        </p:nvPicPr>
        <p:blipFill>
          <a:blip r:embed="rId1"/>
          <a:stretch/>
        </p:blipFill>
        <p:spPr>
          <a:xfrm>
            <a:off x="914400" y="38098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from _________________ causes primary pollutants (NOx and VOCs) to interact and to attack 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t to 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e in summer/ wi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se in urban/ rural ar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be done about air poll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ir Act (1970, enhanced in 19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gulates vehicle emissions- catalytic co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Outlawed lead in gaso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fewer emissions than 30 years 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dustry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i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ubbers (electrostatic precipitators)-remov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rticles (dust/smok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releasing into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be done about air pol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issions t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can only pollute so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n sell “extra” pollutio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ifornia’s Zero-emission vehicle progra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ed in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ail-pipe e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 c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(electric) operated c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18288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ERATURE I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1905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rs when the air above is warmer then the air be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inversion"/>
          <p:cNvPicPr/>
          <p:nvPr/>
        </p:nvPicPr>
        <p:blipFill>
          <a:blip r:embed="rId1"/>
          <a:stretch/>
        </p:blipFill>
        <p:spPr>
          <a:xfrm>
            <a:off x="2209680" y="0"/>
            <a:ext cx="51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make air pollution wor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mperature in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HOT air on top of COLD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lder air is on bottom, polluted air is tra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LA, Mexico City, Donora 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ora, PA 1948 at 12 n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mployer  was a zinc smelting factory – lots of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inversion + smog + no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people d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,000 ill from sm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ators couldn’t see football players on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smog06"/>
          <p:cNvPicPr/>
          <p:nvPr/>
        </p:nvPicPr>
        <p:blipFill>
          <a:blip r:embed="rId1"/>
          <a:stretch/>
        </p:blipFill>
        <p:spPr>
          <a:xfrm>
            <a:off x="5105520" y="2209680"/>
            <a:ext cx="403848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harmful substances build up in the air it is called:  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should have ________, _________, and small amounts of argon, CO2, and water va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Pollution and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and nose 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g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ys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g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oor air pollution-12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 building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er houses are so air tight that the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p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utants inside/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building_sm"/>
          <p:cNvPicPr/>
          <p:nvPr/>
        </p:nvPicPr>
        <p:blipFill>
          <a:blip r:embed="rId1"/>
          <a:stretch/>
        </p:blipFill>
        <p:spPr>
          <a:xfrm>
            <a:off x="4689360" y="1523880"/>
            <a:ext cx="3868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oor air pollu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O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(write this next to ‘C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y 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a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from breakdown of uranium in underground r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ding caus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c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b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s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re retar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asbest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oor air pollu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 b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freshe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garettes/ pi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vented stoves/ heaters, fire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ty air conditioning 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dehyde from new cabinets , furniture, 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 from faulty he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ck Building Synd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youtube.com/watch?v=VEhzMZWfX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-S8vr27plZs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yfsJ7TcDsy8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youtube.com/watch?v=yIYim9SAx6A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ad P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aL8Ae-zxuqM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_sDV1RuHdMM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be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H7N7PYJweBA&amp;feature=fv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kinds of air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– a pollutant put into the air by human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production.  Why?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– when primary pollutants mix with other pollutants or other things in the air (like_______  ________) to make new pollu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M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4267440" cy="2403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829800" y="6324480"/>
            <a:ext cx="316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daac.gsfc.nasa.gov/oceancolor/locus/images/LA-smog-2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LA-smog-2"/>
          <p:cNvPicPr/>
          <p:nvPr/>
        </p:nvPicPr>
        <p:blipFill>
          <a:blip r:embed="rId2"/>
          <a:stretch/>
        </p:blipFill>
        <p:spPr>
          <a:xfrm>
            <a:off x="304920" y="3886200"/>
            <a:ext cx="44193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cc00"/>
                </a:solidFill>
                <a:latin typeface="Arial"/>
              </a:rPr>
              <a:t>SM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unlight affecting and mixing with air, exhaust and oz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Hard to s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Unhealthy to brea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POLLU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 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x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x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te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s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orless, colorless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- cars,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s with the body’s ability to carry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ngen 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n” sm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- burning fuels in cars, power plants,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ontribute to respiratory problems, cancer, ACID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4978440" cy="3504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4872600" y="5486400"/>
            <a:ext cx="282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i.treehugger.com/images/2007/10/24/smog-jj-001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smog-jj-001"/>
          <p:cNvPicPr/>
          <p:nvPr/>
        </p:nvPicPr>
        <p:blipFill>
          <a:blip r:embed="rId2"/>
          <a:stretch/>
        </p:blipFill>
        <p:spPr>
          <a:xfrm>
            <a:off x="4038480" y="2057400"/>
            <a:ext cx="49435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lfur diox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y” sm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- burning fossil fuels, volcanic eru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s to ACID RAIN, secondary pollutants cause respiratory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495680" cy="3183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754920" y="5486400"/>
            <a:ext cx="3215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epcc.pref.osaka.jp/apec/eng/history/images/ab11_01.g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ab11_01"/>
          <p:cNvPicPr/>
          <p:nvPr/>
        </p:nvPicPr>
        <p:blipFill>
          <a:blip r:embed="rId2"/>
          <a:stretch/>
        </p:blipFill>
        <p:spPr>
          <a:xfrm>
            <a:off x="304920" y="2133720"/>
            <a:ext cx="449568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atile means 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porize (evaporate) into the air easily, and form toxic f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- burning fuels and off-gassing solvents (dry-clea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 SMOG, cause health problems, harm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1:49:43Z</dcterms:created>
  <dc:creator>udsd</dc:creator>
  <dc:description/>
  <dc:language>en-US</dc:language>
  <cp:lastModifiedBy>MVanElli</cp:lastModifiedBy>
  <dcterms:modified xsi:type="dcterms:W3CDTF">2011-05-16T15:09:29Z</dcterms:modified>
  <cp:revision>43</cp:revision>
  <dc:subject/>
  <dc:title>   AIR POLLUTION</dc:title>
</cp:coreProperties>
</file>